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669-616C-470D-AF5F-740915B7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85E-C6FE-44B1-A39F-0F13BB30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EBF-1BD2-42F0-BF51-9BB46AE6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013-4EB5-4992-BB3B-DC9FE1DE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F01-AD7B-4955-A25D-B569678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4A6-EECC-4776-8901-EE17073E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913-B6B5-43BD-A7D5-D2B20FDE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2EF-7BB5-46DB-AA02-39E8DFEA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B77-904B-4E2B-95C4-098F6C85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522-ED75-4937-9023-D930387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E66-2102-42DE-B624-9156F70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37B-DAA2-4141-9AF9-05F3B73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2AC8-ADB5-4AF6-8251-93E721BEF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ablas blan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Subjuntivo- verbos con camb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9. Ud. serv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0. nosotros dorm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m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1. yo ped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52280" y="7621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2. nosotros men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3. ellas repe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p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t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4. 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 encend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c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d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62120"/>
            <a:ext cx="90676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5. nosotros segu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g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6. Ra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l quer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7. Pepe resolv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l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762120"/>
            <a:ext cx="90676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8. nosotros pod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od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. yo comenz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om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c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9. yo cont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20. él hab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hay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2. ellos pens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s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3. Uds. jug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4. tú rog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5. nosotros prefer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ref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6. 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 men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7. vosotros dorm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m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Arial"/>
              </a:rPr>
              <a:t>á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76320" y="7621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8. Pablo encontr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c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5:45:17Z</dcterms:created>
  <dc:creator>jbarber</dc:creator>
  <dc:description/>
  <dc:language>en-US</dc:language>
  <cp:lastModifiedBy>Jessica Kaplan</cp:lastModifiedBy>
  <dcterms:modified xsi:type="dcterms:W3CDTF">2014-02-27T18:27:57Z</dcterms:modified>
  <cp:revision>16</cp:revision>
  <dc:subject/>
  <dc:title>Slide 1</dc:title>
</cp:coreProperties>
</file>